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349-91AA-4B47-9878-79348393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AE7-16A2-44EF-83BF-15E13C4B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990B5-33F6-4F41-870A-ABB4894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8BBF6-FE5D-4F9A-AF7C-31FFCA28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1E227-774C-40C0-9DEB-744B1130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E1365-C32B-484C-B029-2561EE9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5A06B-52B2-4358-98C8-C1C29A2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AB49E-EF70-4F1B-9FCA-0894170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E2A63-7275-41AE-AFE6-3F689D0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67A3F-F0B0-4029-AA7C-4FE8F965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9F5C6-5D7A-4EE6-9AB3-1CE70C34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2E774-1D9E-42D1-A962-6B6224E0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206-49ED-44B5-A4CB-E81C0461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E8C67-91FC-490C-8938-11AFCF9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C9CFF-051A-494D-816F-9379CBE1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3A1DD-9787-4C45-8094-B816FE4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21094-68BC-4516-B9B7-FE4E3AEF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01E0F2-D339-44F4-92F4-BBF95B69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B385E-A295-44FA-AC76-D071811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92A35-19E0-49E4-83E8-D5494B0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7C382-E43A-442F-83CA-E59CEDE3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EA8DF-3CB6-4F27-B146-7245037F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9CB9B-5BCF-4FC6-9BFB-E818518C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FDE-DAD6-4953-B95B-4DF42010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EF92D-EBD7-4B2A-A535-A060976E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3217F-ACE1-46DA-9325-54AD57B8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5C3AB-553A-4AC9-BA5C-1351B87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4AB18-EAC9-4BF1-B208-F53A725C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05B67-BB1D-40CB-A65F-4D38BD6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7292E-DE45-4450-8B0D-B3212BF5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A37F-57A4-49BF-BAB9-2E0B422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6F4D-BD32-4581-88D4-3AECB3A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46954-9585-4818-8DCA-24CB6C68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F9569-BA4A-450C-9BDD-0DAE8433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E20-4141-44EA-8A99-8781E9E5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4FBA2-52F7-46A1-BE37-11F8C7E5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29855-0E34-4F72-99D9-70ABC284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65159-D09C-4AE3-997E-ECB89000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B6CC6-9908-4758-B205-E8340CFC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F295E-907B-4BB2-88D0-9C080573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1E596-46B2-4601-A8CE-C0CC548E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89681-C86E-4480-A11F-26BE4F0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06B2B-1ABC-4353-B2C6-3A3C47B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2F9B3-FE4E-4407-BAD1-256DB85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6983F-E96C-48EE-8C5C-0B8F6D5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C44E-3356-410C-9A49-C8EDA790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D4343D-71A9-443B-A029-8317D51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D6BAF-8694-4656-A0A2-418B22C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A4797-C2C7-4B90-A25F-CA71763C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6F003-7C50-40CB-8F4A-F838D7E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DD01C-95CC-4213-BEE7-601D67F8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7698-4675-4E19-90E5-B087E224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292E-A001-4BBB-89F4-F58ED90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C214-07F3-49F7-9409-9D6A17F6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2F10-916E-4A31-9B8A-E0F46F2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FDAB-68CB-46EC-81EF-BF2BCDB5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D6E-D8FB-4AA4-A65A-8DD7E249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8CD3-96BA-4E23-A244-9E4A8B6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F32-37C6-4007-A328-3B531495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F8E-118C-4E73-A289-8036E42B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2E9A-4012-426F-BBBC-80CE1105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786-B917-4CBE-ADD2-4702572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3BE9-221E-42A5-9C86-76DD507B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EB98-0BC7-48E6-A69E-0CF8D70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7F52-6DAC-4681-A859-B6AC1E6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FBDB-4ACE-4CAC-8B11-7E94119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20DD-1DB9-4B7A-897D-C9D941A0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F40-646E-43C3-834B-60ECABF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A103-D903-4724-85C0-ABAA82C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927A-C7EF-42A5-AB68-01955DD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BA1FA-FE3F-454A-9B27-E5C52CF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2C38-A49F-432C-BCA2-0D6E3575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48C90-D876-49FE-B358-87038E52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57CB-4B11-40C1-B0A8-753D3F8D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D10B-CFE9-4BDC-93D8-FF3F4EC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13F6-9C22-418D-B6CD-8DAB9A4F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8A98-B6EF-4073-8405-F1D72DA3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A4D-2863-4032-ACC5-DC119922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B22-3E99-4AA4-B233-AC1E1EE4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A2F9-1E19-4326-B1F9-F618FF81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2D8F-1C02-4D2C-960F-C64CC7D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D681-7DD1-429B-9166-9FDB9443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56D8E-F99A-4497-826B-8B842DC9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CD389-175A-4694-9C0E-5322489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533C3-E111-4D3F-A703-D62868A1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F2F1F-2658-462E-8B2A-164464BA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B2AD-8DBA-45F9-9315-1DF6F9C0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69BD-8C4F-4319-9F60-05ABFF91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6A0C-043F-4812-8358-219B2C00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DD0-72E8-4CE7-B882-997EA366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75F4-3573-441F-AABD-E5BEA2E1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66D8-85F1-40B7-BD89-0CA5B0FA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98058-C62D-4288-9C09-462A972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B289-C8D0-47AE-957C-2B03BE1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E2225-7C4F-4ABF-9AC9-4D3A724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1506-5880-4FF1-B27F-AD328B1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E9468-1E06-481B-9B90-E2AFF5B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E0976-4980-4975-8965-CC9DCCD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45DD-7945-4DA7-803A-C0F18766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2E04-5CD0-46CB-A481-412D0F2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9FE-1AC6-49F5-9D04-3BC21DE8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7633-B776-4966-B0DD-57E31383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04FB7-8503-4AA6-A694-7036D843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E71A-A864-4394-B1F7-22669A3C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6E41B-8AC2-455A-8AC6-3B11572C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A20EE-9BD9-4CAD-BA35-E055D791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591B-1296-4430-B4C3-17EB0D0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433B0-93A1-4B71-A66E-857DE27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69AD-B24D-422A-80EF-E0D43F8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8025-13C6-43EB-89CC-2D8F238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E20D8-8F7E-47F6-ABD9-B38B2C9A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6B2-1B42-43C8-9A29-952B962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3910-5EF9-4FC0-A4AB-F6EBBDB5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B0AB-B06B-4D4E-8E5E-D3532F85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7C847-6A2B-43A2-8D0E-4F7F844E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9E923-DC15-41A3-B919-FC7E7E40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DF67A-0E04-42B0-B5E5-FCA7DADB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6945-F484-4293-8A34-1FCD61E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4EACF-D2CB-4B34-98DA-E998FF88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E4DA4-1949-4DE2-B2B0-F7F7AAF0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54BC-FCA9-40A0-B3C4-B543503E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3E06-0C4D-4F17-AF1B-56594596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282-BCA4-437B-899E-50370BD2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D7AED-CE0B-46BF-B810-77A1686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67040-CC04-4BB8-888F-B24AD09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49289-0A87-45A9-9001-897B15ED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AD93-6362-47C3-91B3-886D670B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FA73-0C3A-4358-BB1E-60D4858B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7409-A375-4205-8154-A6F31379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FFC2F-EE1A-404D-A1C7-E26408E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A03D-6A06-4D00-BC0C-1EBE1611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77323-7F90-45CB-ABB9-E54A9D7F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6263-71DC-4DEC-9C36-B2101476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944-7154-45EC-8714-CCFF9D0F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8F7B2-C8CA-4502-A740-D3391F6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F1FC-08F3-4C32-8C50-E474236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BCE13-731E-43EC-B246-89865D7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701C1-B4E7-4582-9416-4F2CB79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DDC1-413E-4E3F-A557-9A72CB62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94981-9799-4CD0-9F47-BF04188D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E90EE-BE8A-420E-B9A5-C9D4FAE1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C6C24-A017-4232-9163-71FA9B62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781BC-512A-4EC2-98A6-27793E0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C5347-6AAB-4D77-A83C-40FEB25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B47-BC6E-4D17-BA01-2D81F7E03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EDD-8ADB-44FC-879A-7994AC2BCE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36B3-08C4-46F3-8B31-4394BAF31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37F8-AE5F-4D51-BDFD-9BB97AEF5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9AC-97AA-449A-A17F-13E15811DB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15FE-932D-495C-BBDF-31F1E727B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A63A-4C03-41E0-8BED-6F6C32007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A6B-32DF-4991-9A6D-6CA1A76E02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DADA-5055-48CB-A35F-D9989025A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348-72BA-470B-9D23-05A01FD0FE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8C2-D09A-4897-868E-F8823EFE17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472-6B8E-42DC-8B35-9A4E7B9592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2/IllyrianCavarlywithAxe.jpg&amp;imgrefurl=http://commons.wikimedia.org/wiki/File:IllyrianCavarlywithAxe.jpg&amp;usg=__F-pj013OSlFmC0ZIIew9OYH0MEk=&amp;h=356&amp;w=344&amp;sz=106&amp;hl=en&amp;start=16&amp;um=1&amp;itbs=1&amp;tbnid=1GRpo1TlCP3g3M:&amp;tbnh=121&amp;tbnw=117&amp;prev=/images?q=Illyrian&amp;um=1&amp;hl=en&amp;safe=active&amp;sa=X&amp;tbs=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thodox-christian-comment.co.uk/conten2.jpg&amp;imgrefurl=http://www.orthodox-christian-comment.co.uk/contents_list&amp;index.htm&amp;usg=___VR9E3Kz1pMea7s5dWysOqcozqI=&amp;h=506&amp;w=503&amp;sz=50&amp;hl=en&amp;start=3&amp;um=1&amp;itbs=1&amp;tbnid=_dxd317GUamubM:&amp;tbnh=131&amp;tbnw=130&amp;prev=/images?q=Orthodox+christian&amp;um=1&amp;hl=en&amp;safe=active&amp;tbs=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AYRE, CLAIRE, SAMANTH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Montenegri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id the people come from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llyri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Original people of the region between Danube River southward to the Adriatic Sea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ad many separate trib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mixture of colonists and traders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igrated towards the se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0" name="Picture 2" descr="http://t1.gstatic.com/images?q=tbn:1GRpo1TlCP3g3M:http://upload.wikimedia.org/wikipedia/commons/7/72/IllyrianCavarlywithAx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666880"/>
            <a:ext cx="35053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o were they ruled by and in what time period? 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371240"/>
            <a:ext cx="8504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68 BC Roman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and 6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entury Goths and Avar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900-1186 Slavic State of Duklj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186-1355 House of Nemanjic -- Serbia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421-1451 Despotat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entury – 1797 Republic of Veni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797-1806 Austr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06-1807 Russ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07-1813 France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814-1918 Austr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918 Kingdom of Serbia, Croatia and Sloven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476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46b86"/>
                </a:solidFill>
                <a:latin typeface="Georgia"/>
              </a:rPr>
              <a:t>1929 Renamed Kingdom of Yugoslavia</a:t>
            </a:r>
            <a:endParaRPr b="0" lang="en-US" sz="19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1992 Socialist Federal Republic of Yugoslavia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2003 State Union of Serbia and Montenegro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2006 Republic of Montenegro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How did this ruler/ ruling group influence the region/ ethnic group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avic state of Duklj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lavs accept Christiani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Mix Roman, Illyrian, and Slav culture and ethnic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urks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plit the land into territories, territories were ruled separately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gdom of Serbia, Croatia and Sloven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began to strive for political and religious unity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at war/ Conflicts were they involved in before the breakup of Yugoslavia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56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Bar – 1042 Romans and Duklja stat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Kosovo– 1389 Serbian Despotate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Rzanica – 1466 Albania and Montenegr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796 -- Old Montenegro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Krusi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Lopate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858 – Montenegro and Ottoman Empire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Grahovac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Kolasin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876-- Montenegro and Ottoman Empi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Fundina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Vucji Do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attle of Kalimanci – 1913 Second Balkan Wa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WI --  fought with Serbia and the alli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"/>
              </a:rPr>
              <a:t>Battle of Mojkovac </a:t>
            </a:r>
            <a:endParaRPr b="0" lang="en-US" sz="16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ontenegro vs. Italian occupi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WII – fought with Yugoslav troops against Fascis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europeandcis.undp.org/uploads/public1/images/Montenegro_Flag-RESIZE-s925-s450-fit.jpg"/>
          <p:cNvPicPr/>
          <p:nvPr/>
        </p:nvPicPr>
        <p:blipFill>
          <a:blip r:embed="rId1"/>
          <a:stretch/>
        </p:blipFill>
        <p:spPr>
          <a:xfrm>
            <a:off x="5029200" y="259092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religion do the practice (majority)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thodox Christi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2" descr="http://t1.gstatic.com/images?q=tbn:_dxd317GUamubM:http://www.orthodox-christian-comment.co.uk/conte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057400"/>
            <a:ext cx="4267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their economy based 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rviced bas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 an economic transition, currently recovering from the Yugoslavian Wa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http://t2.gstatic.com/images?q=tbn:_9HiU8Eo_aAgCM:http://www.bestwaytoinvest.com/UserFiles/Image/panama-.jpg"/>
          <p:cNvPicPr/>
          <p:nvPr/>
        </p:nvPicPr>
        <p:blipFill>
          <a:blip r:embed="rId1"/>
          <a:stretch/>
        </p:blipFill>
        <p:spPr>
          <a:xfrm>
            <a:off x="3962520" y="2514600"/>
            <a:ext cx="280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9899"/>
                </a:solidFill>
                <a:latin typeface="Georgia"/>
              </a:rPr>
              <a:t>Describe 3 ways the physical geography of the region impacted the development of the ethnic group?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lls and mountains separated groups of people who then developed their own culture across the country especially separated coastline and inlan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ong the coastline and deep swift rivers groups based around fishing develope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eavily forested area divided ethnic grou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Picture 3" descr="map_rlf.gif"/>
          <p:cNvPicPr/>
          <p:nvPr/>
        </p:nvPicPr>
        <p:blipFill>
          <a:blip r:embed="rId1"/>
          <a:stretch/>
        </p:blipFill>
        <p:spPr>
          <a:xfrm>
            <a:off x="6324480" y="4343400"/>
            <a:ext cx="2211480" cy="21337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http://t0.gstatic.com/images?q=tbn:Xi_gRjqc-M99OM:http://www.lib.utexas.edu/maps/europe/serbia_montenegro_pol_97.jpg"/>
          <p:cNvPicPr/>
          <p:nvPr/>
        </p:nvPicPr>
        <p:blipFill>
          <a:blip r:embed="rId2"/>
          <a:stretch/>
        </p:blipFill>
        <p:spPr>
          <a:xfrm>
            <a:off x="1371600" y="4294080"/>
            <a:ext cx="20574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27:26Z</dcterms:created>
  <dc:creator>clairemsindlinger</dc:creator>
  <dc:description/>
  <dc:language>en-US</dc:language>
  <cp:lastModifiedBy>Sam</cp:lastModifiedBy>
  <dcterms:modified xsi:type="dcterms:W3CDTF">2010-05-10T00:38:40Z</dcterms:modified>
  <cp:revision>28</cp:revision>
  <dc:subject/>
  <dc:title>Montenegrins</dc:title>
</cp:coreProperties>
</file>